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E81-B4C3-46D5-A71F-2FE87DFD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F10-7717-4076-85EA-5E8314D7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298-1F62-4D56-AC53-8C0DD7E5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DFC-58B6-43A5-A75D-38109621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65C2-CB94-425F-B313-E5BB82E8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A0AF-46F7-4A15-8F85-2FE49CE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1360-9089-41A7-B0F2-1BD637C9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50A-C2DF-42E6-8D86-F6D6F01D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31E2-579C-479B-9117-2E3627C8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A967-8DD8-41EF-AC13-FDA82BA7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28E2-D4EA-4F42-B4D1-C4585FEA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1BB-4D76-482D-803D-CA99059C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3AEA-BDD4-4830-B3F5-23A97DC3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E012-B6E1-409E-B9FE-C8721CD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AB47-3739-455B-BEB3-064A59E6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2731-4473-453D-B3B8-99A9C9B4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0ED8-9CB4-4B55-B1F8-52EEA4A1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2A6-ADE6-4CFB-8A89-1FD6D15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71A-EBD6-41F2-A2C7-DFDD7C1C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C10-4BEF-402A-ACC7-2AE0842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865-41DE-4995-8ECD-8FAD82DA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CF7-64EA-4219-A7CE-4A510DB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2E4-2FEF-47EA-BFE5-651C5C3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B1D-5731-4A04-B77A-B657B10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AA76-A4C2-406C-9F74-35F9D04BF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233-E9BF-45B1-AB06-90A0FA25C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n nom est: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 histoire s’intitu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80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Développement (suite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6800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5:06:15Z</dcterms:created>
  <dc:creator>Marie-Pier</dc:creator>
  <dc:description/>
  <dc:language>en-US</dc:language>
  <cp:lastModifiedBy>Marie-Pier</cp:lastModifiedBy>
  <dcterms:modified xsi:type="dcterms:W3CDTF">2007-11-19T16:28:06Z</dcterms:modified>
  <cp:revision>11</cp:revision>
  <dc:subject/>
  <dc:title>Le trio Parfait</dc:title>
</cp:coreProperties>
</file>